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FE21-8CF5-44B0-A13B-A4F65376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8DB8-C19D-434F-AE76-F4E37475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AEBC-E2CF-466B-A80F-F2831665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8C42-6A0C-4D04-B6EE-D367742C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AEF-0861-4335-BA47-9059A87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81AE-BEE2-4B23-B547-746148C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20C8-71E0-44C4-A23A-A82C3FE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2801-8FA4-467A-B002-BE36B78B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A622-718D-4A69-A6E1-D37C101C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2CE3-E818-423E-8CBE-CEF768F8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937-4689-47D0-B21F-56716E2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9753-2F9E-4535-A910-FDEC3F3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509C-43F1-4BB6-A6C2-FB7C08E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DD5E-F63D-49FA-85CF-0DD6F5EE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E3A4-CCA1-4857-884A-049B8A4A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16C5-4385-4278-8793-69BE3936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91FB-D56E-4C62-B1AA-E561ADD9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18C5-0648-4659-B834-8C0B918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2574-CDFA-4074-9A6E-5EFD533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AD7B-A584-4EA9-931E-4DEDBCB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8384-B6CD-4989-896E-584AB07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C9CD-AB20-4305-B144-0BACDBBE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A5D1-1349-4717-B906-31CDEC8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4962-C4EC-4E00-8FDD-C03C639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118-57DC-4E84-9FDD-0A84306009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FCAC-8A67-4DCC-A7B5-5D937D5051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Divided Kingdom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 6, Lesson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g. 18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hron.16:7 -17:19; 1 Kgs.16:1-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395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96080" y="1828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848720" y="426672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vided Histo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ani the Prophet rebukes Asa – 2 Chron.16:7-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hu the Prophet Reproves Baasha – 1 Kgs.16:1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ah – reigns 2 years (evil) – 1 Kgs.16:8-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imri – 1 week (evil) 1 Kgs.16:15-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mri – 12 years (evil) 1 Kgs.16:21-2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vided Histo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s in 4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hoshaphat – 25 years (Good) – 1 Kgs.22:41-50; 22:2-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s His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hab – 22 years (evil) 1 Kgs.16:29 – 22:40; 2 Chron.18:1-3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h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icho is rebui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29600" y="1828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381880" y="449532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udah’s Time Under Jehoshaph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ummary in 2 Chronicles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hoshaphat succeeds his father 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igns piously, and is particularly blessed, v. 1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teaching ministry and beneficial effects, v. 7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ilistines and Arabians bring him gifts, v.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greatness, v. 12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anders of his troops, v. 14-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395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534520" y="1828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305920" y="449532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6:00:51Z</dcterms:created>
  <dc:creator>Terry W. Benton</dc:creator>
  <dc:description/>
  <dc:language>en-US</dc:language>
  <cp:lastModifiedBy>Frank D Vines</cp:lastModifiedBy>
  <dcterms:modified xsi:type="dcterms:W3CDTF">2005-07-17T01:17:52Z</dcterms:modified>
  <cp:revision>2</cp:revision>
  <dc:subject/>
  <dc:title>Till There Was No Remedy (Divided Kingdom)</dc:title>
</cp:coreProperties>
</file>